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180-1890-400D-85D8-C73F39F9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65B-ADCF-4F60-9319-BD391F70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22D-BF1D-4929-A129-975BD348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914-9286-460D-86F5-F844F4FD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B18-7FD1-4686-9CA1-0C81CAF0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7E5-4647-4DDD-9D84-2F4D01DD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1BA-DE5A-46EC-8C25-0414B754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E98-D489-4FC2-9773-530785D6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744-6615-4EE3-B3CB-84138E52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011-06F3-4CD7-844F-7B5D5C8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C3E-E804-433B-B2A7-74EEA25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336-A254-46EB-B262-B5907C3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D315-33C3-42E3-BEDC-79C4DAA3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71600" y="1752480"/>
            <a:ext cx="6410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 нас дома –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интерес к фехтованию возник в начале 17 века. Считалось, что этот вид спорта воспитывает воинский дух и ловкость. Петр I сделал фехтование непременным занятием для придворных и ввел его в военных и гражданских учебных заведениях. В 1816 году в Петербурге открылась первая фехтовальная школа. Такие школы открывались и в других городах России. Но российские спортсмены начали показывать хорошие результаты только с начала 1960-х гг. Выдающихся результатов добились рапиристы Виктор Жданович и Марк Мид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430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3505320"/>
            <a:ext cx="838080" cy="838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133720"/>
            <a:ext cx="2724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9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мандных соревнованиях олимпийскими чемпионами по фехтованию на саблях становились Григорий Кириенко, Станислав Поздняков и Сергей Шариков (1996 год), чемпионками на шпагах — Татьяна Логунова, Оксана Ермакова, Карина Азнавурян, Анна Сивкова (2004 г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ругих титулованных фехтовальщиков: Марк Ракита, Виктор Кровопусков. У женщин высоких результатов добились Галина Горохова и Елена Бе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57200"/>
            <a:ext cx="76212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86000"/>
            <a:ext cx="4038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736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ехтов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1295280" cy="98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сабл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1566720" cy="21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5880" y="1600200"/>
            <a:ext cx="1509840" cy="2185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3809880"/>
            <a:ext cx="152388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952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игорий Кири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886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нислав Поздн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ргей  Ша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пионы на шпаг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1524240" cy="203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86200" y="2286000"/>
            <a:ext cx="126684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153828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81280" y="4724280"/>
            <a:ext cx="2019600" cy="139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47920" y="34290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 Логу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сана Ерм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3352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ина Азнавур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а Сив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ругие титулованные фехтовальщ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150948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819520" y="419112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876920" y="4191120"/>
            <a:ext cx="1373040" cy="182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рк Рак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 Кров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6019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лина Горох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6019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ена Бе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fbd985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 истории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пионы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альбом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680" y="457200"/>
            <a:ext cx="41148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52520" cy="438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80880" y="3124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429000"/>
            <a:ext cx="457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505320"/>
            <a:ext cx="15228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809880"/>
            <a:ext cx="380880" cy="3812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662040" cy="39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533160" cy="40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1" idx="0"/>
            <a:endCxn id="51" idx="0"/>
          </p:cNvCxnSpPr>
          <p:nvPr/>
        </p:nvCxnSpPr>
        <p:spPr>
          <a:xfrm>
            <a:off x="45716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476360" cy="87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8120" y="2590920"/>
            <a:ext cx="2724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то не любит фильмы и книги о храбрых и отважных мушкетерах? Все ребята хотят так же ловко владеть шпагой, как знаменитые Атос, Портос, Арамис и 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ртаньян..</a:t>
            </a: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ехтование – это огромный интересный мир. Открывая его, понимаешь, что он тебя полностью поглощает, с ним уже невозможно расстаться - и он остаётся с тобой навсегда.</a:t>
            </a:r>
            <a:br>
              <a:rPr sz="1600"/>
            </a:br>
            <a:br>
              <a:rPr sz="900"/>
            </a:b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 спор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принято считать спортом, искусством, военной наукой, средством воспитания. Как вид спорта, он выделяется среди прочих своей эстетикой, романтизмом и богатством истории, уходящей в далёкие тысячелетия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ехтование – это умение наносить уколы, посредством атак и защит в определённые моменты боя, используя свой интеллект. Фехтовальный поединок очень похож на сражение: в нем присутствуют маневрирование, разведка и маскировка, наступление и оборона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56080" y="1600200"/>
            <a:ext cx="2621160" cy="4525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ис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909720" cy="8809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63" name=""/>
          <p:cNvSpPr txBox="1"/>
          <p:nvPr/>
        </p:nvSpPr>
        <p:spPr>
          <a:xfrm>
            <a:off x="2971800" y="2514600"/>
            <a:ext cx="29718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глубь истор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кусству наносить удары, самому не получая их, можно научиться, занимаясь спортивным фехтованием. История фехтования уходит вглубь веков, это один из самых древних видов спорта. Упражнения с оружием были распространены в древней Индии, Японии, Китае, Древнем Египте. Фехтование как зрелищное искусство было популярно в Древней Греции и Древнем Риме. В средние века отличное владение мечом и шпагой служило гарантией сохранени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ещё немножко об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хтование как искусство владения шпагой и рапирой зародилось в Испании в 15 веке. В это время оно существовало в основном в форме дуэлей. К 19 веку фехтование сформировалось как вид спорта. Наиболее активно оно развивалось во Франции, Италии, Австро-Венгрии и Германии. Соревнования по фехтованию в современном понимании впервые были проведены в 1896 году в Будапеште. В этом же году фехтование было включено в программу Олимпийских игр. До середины 20 века лидировали фехтовальщики из Венгрии, Италии и Франции. Среди них легендарный итальянский мастер Недо Нади, многократный олимпийский чемпион, венгерские спортсмены Аладар Геревич, ставший семикратным олимпийским чемпионом, Рудольф Карпати — завоевавший пять золотых олимпийский медалей, Пал Шмитт — дважды становившийся золотым призером Олимпийских игр. Небывалого успеха добился кубинский спортсмен Рамон Фонст, который завоевал 4 золотые медали на двух Олимпиадах (1900, 19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9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886200"/>
            <a:ext cx="6094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27672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1981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ехтование</a:t>
            </a:r>
            <a:endParaRPr b="0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12-20T18:00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